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898E-7572-40FD-BDD6-2B5D2C76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DDBC-10FD-455F-981A-0B269CB7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1D6-9C25-4C43-8865-1A529697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898-856F-4354-BE2A-E1F291B5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D64-0937-4075-AFCB-F7AEDE9F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5CD-EC0C-4061-8C33-39EC5581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C1A-317B-4F2B-8A0D-C9222EE7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648E-A549-45FC-88AA-44C9AB19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EA6-C9C4-4741-AFA9-A3EAE176A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32D-5E59-4DD2-94BC-CFC565CA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2D50-1F99-4EB0-AE4B-EA9D3DBB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D0D-2950-4A2A-9754-79B98599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B8F-4669-4E2E-A3EF-184B11EC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E83-823C-435B-9A4C-5A6E16D9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20C-23A7-4A46-9281-92584381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E67-0EEA-44A8-8900-CAA51EDD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9F5-265F-4C62-9470-CEDFB9AD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496-FF0F-47EB-A3D4-01EBBA52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5B8-2095-4DF0-BA1F-A22B501B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6F5F-58C4-412C-9AAC-6B11A14C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2CDE-78B5-4659-B2C9-40F3C622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8C56-F79B-4429-9891-8AE160B8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75CE-34AA-4DB0-B405-9945818B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66F-4EA2-40CB-B54C-40C4849B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4EA-FE31-470A-8713-822AA612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04C-19F5-44A2-8DDE-EC926CC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484-3469-48F7-A07B-4A1D0B19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B93-E2B2-4653-A075-6EBA3563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213-DD39-458E-A637-8BACB08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100-53B0-477A-9E9E-9D1A3A5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D48-5315-4BFA-B2E5-04F9B030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B40-B7D6-4CA3-9836-E690D4B7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54E-D3E5-45D8-9E71-3CCCDED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D5B-F14A-467A-8087-BE03EC2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052-19E9-4B64-B6AD-A5BA7DAD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BA1-A3C3-4B19-87AB-B695893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764-C571-430B-B858-3F546A28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s’ reproduct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s’ reproduct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y &amp; mechanic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etailed list of Biology discipli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y &amp; mechanic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brai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brai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land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rmones and gland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5-09-10T03:58:16Z</dcterms:modified>
  <cp:revision>270</cp:revision>
  <dc:subject/>
  <dc:title>Biology Disciplines</dc:title>
</cp:coreProperties>
</file>